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524-B770-489F-A83A-8ADECC5F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BE5-EA47-4942-8E8C-75BFB5B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734-6A3A-46A9-9AF6-8DA10622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A9C-5554-40E6-BE10-F641ED86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13F-2975-4110-BD4D-05FE620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30F-0AB4-4324-88BA-00C4E6E6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AE9-7026-45E8-9BBF-733AF2F9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58D-9D1C-4A05-9F75-85B1CB72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B4A-E617-4F54-AA16-2DE85B1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046-C69B-41FA-B9C6-F52DF70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F80-CA07-4C3D-9297-0636801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EF4-4F26-49E7-B692-D0C0243D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76DE-1F4B-41F0-84FF-0C00C6F5F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43000" y="142884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зыку мы учимся и должны учиться до последних дней своей жизн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71720" y="714240"/>
            <a:ext cx="707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.л..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.с..лили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.р..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..л..не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4"/>
          <p:cNvSpPr/>
          <p:nvPr/>
        </p:nvSpPr>
        <p:spPr>
          <a:xfrm>
            <a:off x="1143000" y="85716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уга 8"/>
          <p:cNvSpPr/>
          <p:nvPr/>
        </p:nvSpPr>
        <p:spPr>
          <a:xfrm flipH="1">
            <a:off x="1142280" y="857160"/>
            <a:ext cx="2071800" cy="490680"/>
          </a:xfrm>
          <a:custGeom>
            <a:avLst/>
            <a:gdLst/>
            <a:ahLst/>
            <a:rect l="l" t="t" r="r" b="b"/>
            <a:pathLst>
              <a:path stroke="0" w="2071688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8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9"/>
          <p:cNvSpPr/>
          <p:nvPr/>
        </p:nvSpPr>
        <p:spPr>
          <a:xfrm flipH="1">
            <a:off x="1071720" y="2000160"/>
            <a:ext cx="2071440" cy="490680"/>
          </a:xfrm>
          <a:custGeom>
            <a:avLst/>
            <a:gdLst/>
            <a:ahLst/>
            <a:rect l="l" t="t" r="r" b="b"/>
            <a:pathLst>
              <a:path stroke="0" w="2071687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7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уга 10"/>
          <p:cNvSpPr/>
          <p:nvPr/>
        </p:nvSpPr>
        <p:spPr>
          <a:xfrm flipH="1">
            <a:off x="1143000" y="3000240"/>
            <a:ext cx="2643120" cy="490680"/>
          </a:xfrm>
          <a:custGeom>
            <a:avLst/>
            <a:gdLst/>
            <a:ahLst/>
            <a:rect l="l" t="t" r="r" b="b"/>
            <a:pathLst>
              <a:path stroke="0" w="2643188" h="490538">
                <a:moveTo>
                  <a:pt x="1321594" y="0"/>
                </a:moveTo>
                <a:cubicBezTo>
                  <a:pt x="2051490" y="0"/>
                  <a:pt x="2643188" y="109811"/>
                  <a:pt x="2643188" y="245269"/>
                </a:cubicBezTo>
                <a:lnTo>
                  <a:pt x="1321594" y="245269"/>
                </a:lnTo>
                <a:lnTo>
                  <a:pt x="1321594" y="0"/>
                </a:lnTo>
                <a:close/>
              </a:path>
              <a:path fill="none" w="2643188" h="490538">
                <a:moveTo>
                  <a:pt x="1321594" y="0"/>
                </a:moveTo>
                <a:cubicBezTo>
                  <a:pt x="2051490" y="0"/>
                  <a:pt x="2643188" y="109811"/>
                  <a:pt x="26431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11"/>
          <p:cNvSpPr/>
          <p:nvPr/>
        </p:nvSpPr>
        <p:spPr>
          <a:xfrm flipH="1">
            <a:off x="1928160" y="3929040"/>
            <a:ext cx="2071800" cy="490680"/>
          </a:xfrm>
          <a:custGeom>
            <a:avLst/>
            <a:gdLst/>
            <a:ahLst/>
            <a:rect l="l" t="t" r="r" b="b"/>
            <a:pathLst>
              <a:path stroke="0" w="2071687" h="490537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7" h="490537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Дуга 12"/>
          <p:cNvSpPr/>
          <p:nvPr/>
        </p:nvSpPr>
        <p:spPr>
          <a:xfrm>
            <a:off x="1071720" y="200016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уга 13"/>
          <p:cNvSpPr/>
          <p:nvPr/>
        </p:nvSpPr>
        <p:spPr>
          <a:xfrm>
            <a:off x="1214280" y="3000240"/>
            <a:ext cx="2357640" cy="357480"/>
          </a:xfrm>
          <a:custGeom>
            <a:avLst/>
            <a:gdLst/>
            <a:ahLst/>
            <a:rect l="l" t="t" r="r" b="b"/>
            <a:pathLst>
              <a:path stroke="0" w="2357437" h="357188">
                <a:moveTo>
                  <a:pt x="1178719" y="0"/>
                </a:moveTo>
                <a:cubicBezTo>
                  <a:pt x="1829708" y="0"/>
                  <a:pt x="2357438" y="79959"/>
                  <a:pt x="2357438" y="178594"/>
                </a:cubicBezTo>
                <a:lnTo>
                  <a:pt x="1178719" y="178594"/>
                </a:lnTo>
                <a:lnTo>
                  <a:pt x="1178719" y="0"/>
                </a:lnTo>
                <a:close/>
              </a:path>
              <a:path fill="none" w="2357437" h="357188">
                <a:moveTo>
                  <a:pt x="1178719" y="0"/>
                </a:moveTo>
                <a:cubicBezTo>
                  <a:pt x="1829708" y="0"/>
                  <a:pt x="2357438" y="79959"/>
                  <a:pt x="2357438" y="17859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уга 14"/>
          <p:cNvSpPr/>
          <p:nvPr/>
        </p:nvSpPr>
        <p:spPr>
          <a:xfrm>
            <a:off x="1785960" y="392904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6"/>
          <p:cNvSpPr/>
          <p:nvPr/>
        </p:nvSpPr>
        <p:spPr>
          <a:xfrm flipH="1">
            <a:off x="3499920" y="64296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9"/>
          <p:cNvSpPr/>
          <p:nvPr/>
        </p:nvSpPr>
        <p:spPr>
          <a:xfrm flipH="1">
            <a:off x="3428640" y="178596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0"/>
          <p:cNvSpPr/>
          <p:nvPr/>
        </p:nvSpPr>
        <p:spPr>
          <a:xfrm flipH="1">
            <a:off x="3714480" y="2857680"/>
            <a:ext cx="14292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1"/>
          <p:cNvSpPr/>
          <p:nvPr/>
        </p:nvSpPr>
        <p:spPr>
          <a:xfrm flipH="1">
            <a:off x="4071600" y="371484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2"/>
          <p:cNvSpPr/>
          <p:nvPr/>
        </p:nvSpPr>
        <p:spPr>
          <a:xfrm>
            <a:off x="1643040" y="157176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4"/>
          <p:cNvSpPr/>
          <p:nvPr/>
        </p:nvSpPr>
        <p:spPr>
          <a:xfrm>
            <a:off x="2428920" y="157176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5"/>
          <p:cNvSpPr/>
          <p:nvPr/>
        </p:nvSpPr>
        <p:spPr>
          <a:xfrm>
            <a:off x="1643040" y="257184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6"/>
          <p:cNvSpPr/>
          <p:nvPr/>
        </p:nvSpPr>
        <p:spPr>
          <a:xfrm>
            <a:off x="2357280" y="25718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7"/>
          <p:cNvSpPr/>
          <p:nvPr/>
        </p:nvSpPr>
        <p:spPr>
          <a:xfrm>
            <a:off x="2000160" y="357192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8"/>
          <p:cNvSpPr/>
          <p:nvPr/>
        </p:nvSpPr>
        <p:spPr>
          <a:xfrm>
            <a:off x="2714760" y="357192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9"/>
          <p:cNvSpPr/>
          <p:nvPr/>
        </p:nvSpPr>
        <p:spPr>
          <a:xfrm>
            <a:off x="3071880" y="464328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0"/>
          <p:cNvSpPr/>
          <p:nvPr/>
        </p:nvSpPr>
        <p:spPr>
          <a:xfrm>
            <a:off x="2214720" y="464328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веряемые безударные гласные в корне сло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зменить форму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о ( ед. или м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добрать однокоренно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4797360"/>
          <a:ext cx="5572440" cy="1571760"/>
        </p:xfrm>
        <a:graphic>
          <a:graphicData uri="http://schemas.openxmlformats.org/drawingml/2006/table">
            <a:tbl>
              <a:tblPr/>
              <a:tblGrid>
                <a:gridCol w="5572440"/>
              </a:tblGrid>
              <a:tr h="1571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о, е, и,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едини слово с нужной бу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…СЛО                         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…КА    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…ЗДЫ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…ТНО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…ВА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едини слово с нужной бу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…СЛО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…КА                       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…ЗДЫ                     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…ТНО                        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…ВА                        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4"/>
          <p:cNvCxnSpPr/>
          <p:nvPr/>
        </p:nvCxnSpPr>
        <p:spPr>
          <a:xfrm>
            <a:off x="2928960" y="1999800"/>
            <a:ext cx="321552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7"/>
          <p:cNvCxnSpPr/>
          <p:nvPr/>
        </p:nvCxnSpPr>
        <p:spPr>
          <a:xfrm flipV="1">
            <a:off x="2571480" y="2142360"/>
            <a:ext cx="37155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10"/>
          <p:cNvCxnSpPr/>
          <p:nvPr/>
        </p:nvCxnSpPr>
        <p:spPr>
          <a:xfrm flipV="1">
            <a:off x="3571920" y="2999520"/>
            <a:ext cx="264384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>
            <a:off x="2928600" y="4643280"/>
            <a:ext cx="3143880" cy="858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Прямая со стрелкой 16"/>
          <p:cNvCxnSpPr/>
          <p:nvPr/>
        </p:nvCxnSpPr>
        <p:spPr>
          <a:xfrm flipV="1">
            <a:off x="2928960" y="4714200"/>
            <a:ext cx="3215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404280"/>
            <a:ext cx="8272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Д…М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…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38080" y="4724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М…ЛЫШИ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055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Ч…С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Д…РИ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К…ВР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6765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5867280" y="27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324480" y="3657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549000"/>
            <a:ext cx="8425080" cy="18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АП…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838080" y="3733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Н…СИЛЬ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83808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Л…ДОВАЯ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1055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…ЖАЮ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Б…ЛЬНИЦ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5105520" y="4648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…ЛЧИЦ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00200" y="3733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8672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867280" y="457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333000"/>
            <a:ext cx="83487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ГР…Б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…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38080" y="4724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ИН…СЛ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105520" y="2819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Т…ХАЮ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0292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Л…НЕЙ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Л…С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5238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23623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867280" y="4648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одводим итог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занимались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считаешь нужным запомн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что можешь похвалить себ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что можешь похвалить однокласс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 в ли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Побилели паля и луга. Льдом покрылась рика. Она уснула, как в сказке. На диревьях лижат сниговые шубы. Пушистые варежки на ветках сосен. Маладые ёлочки укрылись мягким снижком. На снигу кругом узоры птичьих слид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niga10"/>
          <p:cNvPicPr/>
          <p:nvPr/>
        </p:nvPicPr>
        <p:blipFill>
          <a:blip r:embed="rId1"/>
          <a:stretch/>
        </p:blipFill>
        <p:spPr>
          <a:xfrm>
            <a:off x="2916360" y="333360"/>
            <a:ext cx="3100320" cy="3141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1258920" y="3789360"/>
            <a:ext cx="69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6967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4211640" y="285840"/>
            <a:ext cx="493236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6"/>
          <p:cNvSpPr/>
          <p:nvPr/>
        </p:nvSpPr>
        <p:spPr>
          <a:xfrm>
            <a:off x="571680" y="2637000"/>
            <a:ext cx="7929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642960" y="4214880"/>
            <a:ext cx="785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949480" y="1379520"/>
            <a:ext cx="46674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7572600" cy="171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071720" y="3571920"/>
            <a:ext cx="7475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785960" y="50004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714680" y="185724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357192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1857240" y="4714920"/>
            <a:ext cx="287640" cy="257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8"/>
          <p:cNvSpPr/>
          <p:nvPr/>
        </p:nvSpPr>
        <p:spPr>
          <a:xfrm flipH="1">
            <a:off x="3143160" y="3500280"/>
            <a:ext cx="287280" cy="44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F:\Ирине картинку\598904211.jpeg"/>
          <p:cNvPicPr/>
          <p:nvPr/>
        </p:nvPicPr>
        <p:blipFill>
          <a:blip r:embed="rId2"/>
          <a:stretch/>
        </p:blipFill>
        <p:spPr>
          <a:xfrm>
            <a:off x="4857840" y="285840"/>
            <a:ext cx="204156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:\Ирине картинку\2487808.jpg"/>
          <p:cNvPicPr/>
          <p:nvPr/>
        </p:nvPicPr>
        <p:blipFill>
          <a:blip r:embed="rId3"/>
          <a:stretch/>
        </p:blipFill>
        <p:spPr>
          <a:xfrm>
            <a:off x="7020000" y="2276640"/>
            <a:ext cx="1682640" cy="26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:\Ирине картинку\derevo-osina.jpg"/>
          <p:cNvPicPr/>
          <p:nvPr/>
        </p:nvPicPr>
        <p:blipFill>
          <a:blip r:embed="rId4"/>
          <a:stretch/>
        </p:blipFill>
        <p:spPr>
          <a:xfrm>
            <a:off x="5049720" y="3941640"/>
            <a:ext cx="184968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5"/>
          <a:stretch/>
        </p:blipFill>
        <p:spPr>
          <a:xfrm>
            <a:off x="1214280" y="3429000"/>
            <a:ext cx="1393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F:\Ирине картинку\598904211.jpeg"/>
          <p:cNvPicPr/>
          <p:nvPr/>
        </p:nvPicPr>
        <p:blipFill>
          <a:blip r:embed="rId1"/>
          <a:stretch/>
        </p:blipFill>
        <p:spPr>
          <a:xfrm>
            <a:off x="1547640" y="285840"/>
            <a:ext cx="6193080" cy="613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E:\Мои фотографии\Сказочные герои. Картинки\Винни-Пух.gif"/>
          <p:cNvPicPr/>
          <p:nvPr/>
        </p:nvPicPr>
        <p:blipFill>
          <a:blip r:embed="rId1"/>
          <a:stretch/>
        </p:blipFill>
        <p:spPr>
          <a:xfrm>
            <a:off x="79200" y="3700440"/>
            <a:ext cx="3517920" cy="3114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00040" y="1071720"/>
            <a:ext cx="542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mic Sans MS"/>
                <a:ea typeface="Arial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928880" y="307188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entury Schoolbook"/>
                <a:ea typeface="Arial"/>
              </a:rPr>
              <a:t>Безударные гласные в корн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1"/>
          <p:cNvPicPr/>
          <p:nvPr/>
        </p:nvPicPr>
        <p:blipFill>
          <a:blip r:embed="rId2"/>
          <a:stretch/>
        </p:blipFill>
        <p:spPr>
          <a:xfrm rot="846600">
            <a:off x="6093000" y="374400"/>
            <a:ext cx="260316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веряемые безударные гласные в корне сло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356920"/>
            <a:ext cx="425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зменить форму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ло ( ед. или мн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обрать однокорен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68360" y="4797360"/>
          <a:ext cx="5572440" cy="1571760"/>
        </p:xfrm>
        <a:graphic>
          <a:graphicData uri="http://schemas.openxmlformats.org/drawingml/2006/table">
            <a:tbl>
              <a:tblPr/>
              <a:tblGrid>
                <a:gridCol w="5572440"/>
              </a:tblGrid>
              <a:tr h="1571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о, е, и,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Береза 2 фон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83739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02. все птички здесь.mp3" descr=""/>
          <p:cNvPicPr/>
          <p:nvPr/>
        </p:nvPicPr>
        <p:blipFill>
          <a:blip r:embed="rId2"/>
          <a:stretch/>
        </p:blipFill>
        <p:spPr>
          <a:xfrm>
            <a:off x="755640" y="537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4167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Users\Desktop\IMG_20151115_174724_10.jpg"/>
          <p:cNvPicPr/>
          <p:nvPr/>
        </p:nvPicPr>
        <p:blipFill>
          <a:blip r:embed="rId1"/>
          <a:stretch/>
        </p:blipFill>
        <p:spPr>
          <a:xfrm>
            <a:off x="457200" y="1197000"/>
            <a:ext cx="4038480" cy="418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Users\Desktop\IMG_20151115_174751_12.jpg"/>
          <p:cNvPicPr/>
          <p:nvPr/>
        </p:nvPicPr>
        <p:blipFill>
          <a:blip r:embed="rId2"/>
          <a:stretch/>
        </p:blipFill>
        <p:spPr>
          <a:xfrm>
            <a:off x="4648320" y="270828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0:56Z</dcterms:created>
  <dc:creator>fCa</dc:creator>
  <dc:description/>
  <dc:language>en-US</dc:language>
  <cp:lastModifiedBy>admin</cp:lastModifiedBy>
  <dcterms:modified xsi:type="dcterms:W3CDTF">2015-11-30T15:58:52Z</dcterms:modified>
  <cp:revision>18</cp:revision>
  <dc:subject/>
  <dc:title>Безударные гласные в корне слова </dc:title>
</cp:coreProperties>
</file>